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E0892-DF57-428B-955D-66EDFF828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05E36-70A4-4342-937C-B8EE4AB99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51FD2-2EA8-48FD-93FB-5B8709BA5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0CBB8-8F9F-42FB-98CB-68E574AAC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654CA-01F6-45C7-8433-4FF6EC9EC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99477-01EC-484E-A245-0363B0F2A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10D44-6FF1-47EE-8D94-62A635CEC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7FF3C-B10A-4C81-8AD8-C052D1A97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25835-C865-47FD-984C-88C05972B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9F884-0BF3-4140-9324-0E0CCBA98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ECC8D-16FD-43C6-8CB6-8B3A01D9B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3FF49-9BF4-4756-8CA1-5852B9B4E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66B62-DC33-4703-83D8-702143695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176A2-1BCE-4AAA-8E63-508DBF894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65D06-3C30-42A7-A9CF-F80D2F311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F4D6B-8247-4EA5-83EF-D3FB2A4A0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E83C5-0AF7-4D25-A6A4-A2AA6E1E3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A6766-4211-484D-B8AA-1D52CBAE7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4F633-B50E-4A92-B08A-9D4BB11BC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50FC5-A3C7-4BA5-A97C-6F77BE88D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9424D-EA61-4D78-A91A-018699896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04FA2-E305-4C74-8CE8-2DAFC8737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453C8-4266-451A-93B3-FCEE2CEEB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EEB10-C248-4D3F-8E0B-CD4911B6E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39563-E1A7-491B-B7D3-CD3D2DCD27E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000240" y="571680"/>
            <a:ext cx="5643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Monotype Corsiva"/>
              </a:rPr>
              <a:t>Сегодня на урок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BE4CE-1F65-4438-9785-8C6FD2FD692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71520" y="1928520"/>
            <a:ext cx="5600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3429000" y="3571920"/>
            <a:ext cx="5143680" cy="235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Автор данного шаблона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Ермолаева Ирина Алексее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учитель информатики и математик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МОУ «Павловская сош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с.Павловс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Алтайский кра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 txBox="1"/>
          <p:nvPr/>
        </p:nvSpPr>
        <p:spPr>
          <a:xfrm>
            <a:off x="1643040" y="1600200"/>
            <a:ext cx="704376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http://patcollinscm.webs.com/globe2.p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http://74202s031.edusite.ru/images/risunok1.p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i016.radikal.ru/0805/11/baa91c67ab38.p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map-world.ru/geo-small.jp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7" descr="d:\Мои документы\Мои рисунки\risunok1.png"/>
          <p:cNvPicPr/>
          <p:nvPr/>
        </p:nvPicPr>
        <p:blipFill>
          <a:blip r:embed="rId2"/>
          <a:stretch/>
        </p:blipFill>
        <p:spPr>
          <a:xfrm>
            <a:off x="714240" y="2571840"/>
            <a:ext cx="642960" cy="6332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3" descr="d:\Мои документы\Мои рисунки\globe2.png"/>
          <p:cNvPicPr/>
          <p:nvPr/>
        </p:nvPicPr>
        <p:blipFill>
          <a:blip r:embed="rId3"/>
          <a:stretch/>
        </p:blipFill>
        <p:spPr>
          <a:xfrm>
            <a:off x="785880" y="1571760"/>
            <a:ext cx="617400" cy="7855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" descr="C:\Documents and Settings\User\Рабочий стол\картинки на школьныю тему\Рисунок2.png"/>
          <p:cNvPicPr/>
          <p:nvPr/>
        </p:nvPicPr>
        <p:blipFill>
          <a:blip r:embed="rId4"/>
          <a:stretch/>
        </p:blipFill>
        <p:spPr>
          <a:xfrm>
            <a:off x="642960" y="3429000"/>
            <a:ext cx="806400" cy="857160"/>
          </a:xfrm>
          <a:prstGeom prst="rect">
            <a:avLst/>
          </a:prstGeom>
          <a:ln w="0">
            <a:noFill/>
          </a:ln>
        </p:spPr>
      </p:pic>
      <p:sp>
        <p:nvSpPr>
          <p:cNvPr id="92" name="TextBox 6"/>
          <p:cNvSpPr/>
          <p:nvPr/>
        </p:nvSpPr>
        <p:spPr>
          <a:xfrm>
            <a:off x="428760" y="4643280"/>
            <a:ext cx="1357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еографическая кар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31T15:55:29Z</dcterms:created>
  <dc:creator>Comp</dc:creator>
  <dc:description/>
  <dc:language>en-US</dc:language>
  <cp:lastModifiedBy>Comp</cp:lastModifiedBy>
  <dcterms:modified xsi:type="dcterms:W3CDTF">2011-07-31T16:42:02Z</dcterms:modified>
  <cp:revision>8</cp:revision>
  <dc:subject/>
  <dc:title>Слайд 1</dc:title>
</cp:coreProperties>
</file>