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AAE2-189A-474F-BE9B-682F3929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1879-2B19-4F26-8BF0-44D27AA6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318F-1569-4615-92AB-E6CE74F8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8DF-28BA-4530-8429-56DDC46B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01C4-2C57-4BB6-BCB5-DDBFBD45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C683-2BA5-480D-A221-1D9F8616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A43B-C3F5-481B-926C-FBA596B4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731E-44BB-4E15-BE6F-20A88A70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F658-DC20-431C-99E8-EB9B7F6F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C933-112C-4D65-8700-E81579EC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D066-6EA1-4B76-A9D4-212D3DF3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999E-6EFA-428A-9FE4-ACD7F50C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14E3-5A95-4F5F-BA48-432101BC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BADF-32E1-499C-8EF1-610DA1D4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F164-FF2B-4812-BC47-F4F4036C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5D1B-A771-433E-8C72-A0A130FE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487D-38E0-4722-B24F-F67D512D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CD2-C109-4558-9A63-F44A4991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8937-AC71-4FD9-BDE4-823F654E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6766-A6A2-418F-AA89-0ABCEFDB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865E-F10D-42FF-8CB5-8C4139D0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169-37B7-4394-87B3-B58078FE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3AAC-8525-4958-82FA-86336643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44AC-2979-4FAD-85B3-C5FBE1B8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B68C-F1CB-42A1-8F5B-1EEB5ADF0D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4C16-3E2A-4839-A3CB-2BAC94E353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allgraf.net/uploads/posts/2009-05/1241827697_2-school-board.jpg" TargetMode="External"/><Relationship Id="rId3" Type="http://schemas.openxmlformats.org/officeDocument/2006/relationships/hyperlink" Target="http://files.vector-images.com/clipart/schoolsupplies_gk1.gif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0" y="1000080"/>
            <a:ext cx="7000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7172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.Павл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лтай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643040" y="1600200"/>
            <a:ext cx="70437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llgraf.net/uploads/posts/2009-05/1241827697_2-school-board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iles.vector-images.com/clipart/schoolsupplies_gk1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4"/>
          <a:stretch/>
        </p:blipFill>
        <p:spPr>
          <a:xfrm>
            <a:off x="428760" y="1571760"/>
            <a:ext cx="1214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0T18:26:11Z</dcterms:created>
  <dc:creator>Comp</dc:creator>
  <dc:description/>
  <dc:language>en-US</dc:language>
  <cp:lastModifiedBy>Comp</cp:lastModifiedBy>
  <dcterms:modified xsi:type="dcterms:W3CDTF">2011-07-30T18:31:55Z</dcterms:modified>
  <cp:revision>3</cp:revision>
  <dc:subject/>
  <dc:title>Слайд 1</dc:title>
</cp:coreProperties>
</file>